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87375-C452-4E94-A616-9CEEE8C79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8EF7A-40EA-453F-BDF6-937FA6AF7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84760-7F17-4A48-8293-A613F028F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C3E4C-D773-4403-B081-9CD167527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E50E5-9EFA-4E44-9DE2-DD9F66918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56B16-8AA8-441E-8DDE-FB0043767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BF31C-FA59-4715-AD9F-56EE67652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6A2AE-9AFE-4AA7-A522-31DAD33D9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BC032-4E4B-4D45-AF32-516708493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F9D84-1E09-4FD0-B071-2245774CB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DE923-8C66-4D1E-89C2-AFDF18ECD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6212E-5E39-4FF1-AEC0-10B6EBBEB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E9FD8-CEA4-4CFD-979B-6D71E4E6F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EED7B-B314-4DB3-8970-102D748AF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FB87A-369B-4BEE-B245-CCA0F1783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F6305-9C6A-4A5A-8694-9292E6D42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A2B3B-9F65-439B-8E9F-1825E5441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C6F018-A703-4016-A4E9-6492D7DB2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A53276-C59C-46E8-A023-093311C25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606521-6EB1-4E2E-9826-16AD9B202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CCC533-8910-45F9-BE21-6C3F1C02F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46E29E-8704-451A-8F4D-DE90D351C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443DF-F105-42B8-A561-198CEE88F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B1B99E-73EE-4A43-B0A0-E58890884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33F7B5-3B95-48AB-8818-D98AD5DE5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7662FF-E114-479A-8CF9-CDC205D34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A974ED-AC7D-4A48-855F-2F4961D76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EB444B-0A02-4023-A23D-6C8F36799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1C9E46-20F2-42F3-94D8-BFED34523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A9CDE5-A29D-44A3-B735-318D52402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07CD9F-5CD3-4D7D-A8C2-97479BDF2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FB630F-7D58-4007-9F37-9AE34DA86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CBE409-E436-4FB2-AFAF-DAFF05458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03BE8-13BB-4C03-89B9-D354D3827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FDF9A1-50D5-449F-84A6-FC43AC6C2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F60B5A-9757-4439-92AE-A95C6ECC4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BAAF95-EEF7-4B29-B38D-4F34C1F73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70C644-4CE2-4FA8-A888-DDFE0BDCE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484130-6600-4490-BFB1-E401D18AD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3A1EF4-DE79-4572-B596-A00878705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602CBC-1FF0-482E-9988-370EE0293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90D20C-AD0E-47FB-9D5E-F9996ECC4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DEEFC3-0E11-49DB-B8C5-C8A76FA97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82AB7A-F9FF-4FAE-9EE2-900E271D7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C8FB6-7610-466D-ACB3-90767E259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AAEBA4-B1EE-45CB-92EB-ED01F94B6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28D98B-4705-4F5C-BD58-6FF89F121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DA3CE2-9307-44E9-848E-5D33972AE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A15C09-AE0B-45DB-82E9-3C9E2AD2F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3D3E0F-0FD7-4541-ACB0-F34298AE2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6BEB8A-AEB6-4ED4-9662-0ACB2DE46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1666FE-2AE8-46D2-BFEF-ABCAA538A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11B358-D44A-4C38-A2D2-211EDA838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E9F83A-7DB8-45DB-BA8C-0F7A2B88D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750AFD-7E11-4369-9A94-92B42C360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E4755-C477-40EB-A4D8-E913FF8C8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BFEF2D-EB25-4037-91FD-55F33E60F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8859FF-7480-423C-A0EF-1405B811D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1DA0D2-15FC-4951-B2E1-75094DDEC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F21B27-6CE2-4C25-A97A-78382CDF8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B56615-E7D0-473B-B6B0-45AA2FD27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AE323E-266D-44FC-8600-CC18DF320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AE8794-2A36-4574-B9F9-98F7A1BDB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55BEC1-859F-4A2A-B7CE-42D8C403E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500E93-67EC-459E-8757-9227CA061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F6E454-BDC2-48E6-998E-6F7DC3383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4CDC9-2422-47DD-B4D2-D492FB48C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CAC1BC-E1FD-41D4-A06A-3187A6096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454D83-0A13-4EAB-837C-663A4CBEC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2A57A9-0D5A-471C-BD32-A9C04A22E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950FA5-8A3D-4ACE-85C8-E452D0009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991313-9595-4C6A-8563-E3066371F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CBA5C4-41A3-4FBB-A59A-27C18272B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206690-31F4-44EF-B6D7-50AAB103F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09D8CD-DA72-461F-9241-AB0E2496A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A04E4C-EB25-4C04-BF8E-AB00920C7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3FEBB9-61AC-47C9-8A99-C03660B30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4F8B0-16AE-4BA7-8F3A-A61A32F56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332BE6-03AA-4DA7-AD78-EA52E7193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4588A8-1768-45C9-B3FE-DC9D8A21C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1FF266-6B97-4D7C-B199-57F4A8C26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09B572-1210-410E-B4FA-F97A5DCB8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ADF1C0-8199-4A7C-8968-73F15F0F4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A4D2D-7182-4ED9-A138-6B9DB3522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3760"/>
              <a:ext cx="2876400" cy="71460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9000" y="1696680"/>
              <a:ext cx="5543640" cy="8496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880" y="1707840"/>
              <a:ext cx="546768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5240"/>
              <a:ext cx="3308400" cy="6508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F82E1-551B-4AA9-8885-B559A5B6AA48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840" y="5499000"/>
              <a:ext cx="287964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2240" y="5371920"/>
              <a:ext cx="5551560" cy="84924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760" y="5383080"/>
              <a:ext cx="547380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720" y="5370480"/>
              <a:ext cx="3311640" cy="6508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72E67-1364-4E0B-A82B-DB98AD8778DC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6" y="388"/>
                </a:lnTo>
                <a:lnTo>
                  <a:pt x="2706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510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E8E3C-8BEC-44F1-B13B-E77D98EE4318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45" name="Freeform 14"/>
            <p:cNvSpPr/>
            <p:nvPr/>
          </p:nvSpPr>
          <p:spPr>
            <a:xfrm>
              <a:off x="6046920" y="858600"/>
              <a:ext cx="2876400" cy="71460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9000" y="731520"/>
              <a:ext cx="5543640" cy="8496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8880" y="742680"/>
              <a:ext cx="546768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730080"/>
              <a:ext cx="3308400" cy="6508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10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E67C3-9EBA-4F4C-8F2B-D0F87B70935B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93" name="Freeform 14"/>
            <p:cNvSpPr/>
            <p:nvPr/>
          </p:nvSpPr>
          <p:spPr>
            <a:xfrm>
              <a:off x="6054840" y="860040"/>
              <a:ext cx="2879640" cy="71460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2240" y="731520"/>
              <a:ext cx="5551560" cy="85104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1760" y="742680"/>
              <a:ext cx="5473800" cy="7765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720" y="730080"/>
              <a:ext cx="331164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28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DDF1C-83FF-48FF-AA1D-E5D2E0CB16D7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41" name="Freeform 14"/>
            <p:cNvSpPr/>
            <p:nvPr/>
          </p:nvSpPr>
          <p:spPr>
            <a:xfrm>
              <a:off x="6054840" y="5499000"/>
              <a:ext cx="287964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2240" y="5371920"/>
              <a:ext cx="5551560" cy="84924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760" y="5383080"/>
              <a:ext cx="547380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720" y="5370480"/>
              <a:ext cx="3311640" cy="6508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C6685-5676-4420-9D4B-F771BF92686A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89" name="Freeform 14"/>
            <p:cNvSpPr/>
            <p:nvPr/>
          </p:nvSpPr>
          <p:spPr>
            <a:xfrm>
              <a:off x="6054840" y="860040"/>
              <a:ext cx="2879640" cy="71460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2240" y="731520"/>
              <a:ext cx="5551560" cy="85104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760" y="742680"/>
              <a:ext cx="5473800" cy="7765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720" y="730080"/>
              <a:ext cx="331164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19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C001A-0B7A-4AD3-8C5D-4DBAF5BB1AF3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Заголовок 1"/>
          <p:cNvSpPr/>
          <p:nvPr/>
        </p:nvSpPr>
        <p:spPr>
          <a:xfrm>
            <a:off x="304920" y="2438280"/>
            <a:ext cx="861048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33cc"/>
                </a:solidFill>
                <a:latin typeface="Calibri"/>
              </a:rPr>
              <a:t>Бюджеттің орындалуы                </a:t>
            </a:r>
            <a:r>
              <a:rPr b="1" lang="ru-RU" sz="1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СҚО Айыртау ауданы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әсіпкерлік және туризм</a:t>
            </a:r>
            <a:r>
              <a:rPr b="1" lang="ru-RU" sz="1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Calibri"/>
              </a:rPr>
              <a:t>01.01.2022 жылға арналғ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Схема 2" descr=""/>
          <p:cNvPicPr/>
          <p:nvPr/>
        </p:nvPicPr>
        <p:blipFill>
          <a:blip r:embed="rId1"/>
          <a:stretch/>
        </p:blipFill>
        <p:spPr>
          <a:xfrm>
            <a:off x="115920" y="762120"/>
            <a:ext cx="8978760" cy="5840280"/>
          </a:xfrm>
          <a:prstGeom prst="rect">
            <a:avLst/>
          </a:prstGeom>
          <a:ln w="0">
            <a:noFill/>
          </a:ln>
        </p:spPr>
      </p:pic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61048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ndara"/>
              </a:rPr>
              <a:t>Бюджеттің орындалуы бойынша негізгі құжаттар  </a:t>
            </a:r>
            <a:endParaRPr b="0" lang="en-US" sz="20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8" name=""/>
          <p:cNvGraphicFramePr/>
          <p:nvPr/>
        </p:nvGraphicFramePr>
        <p:xfrm>
          <a:off x="237960" y="1752480"/>
          <a:ext cx="8601120" cy="4310280"/>
        </p:xfrm>
        <a:graphic>
          <a:graphicData uri="http://schemas.openxmlformats.org/drawingml/2006/table">
            <a:tbl>
              <a:tblPr/>
              <a:tblGrid>
                <a:gridCol w="2352960"/>
                <a:gridCol w="761760"/>
                <a:gridCol w="685800"/>
                <a:gridCol w="685800"/>
                <a:gridCol w="914400"/>
                <a:gridCol w="762120"/>
                <a:gridCol w="838080"/>
                <a:gridCol w="762120"/>
                <a:gridCol w="838080"/>
              </a:tblGrid>
              <a:tr h="460440">
                <a:tc rowSpan="2"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Атауы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Нақты орындау 1 қаңтарғ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21 жылғы есептік кезең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62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18 жыл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19 жыл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20 жыл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Жылдық жоспа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01-ға жоспа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ақты орындау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0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% атқарылу (жыл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% атқарылу(1.0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7280">
                <a:tc>
                  <a:txBody>
                    <a:bodyPr lIns="9360" rIns="9360" tIns="36000" bIns="36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арлық шығыстар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,38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,99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,99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,99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4040">
                <a:tc>
                  <a:txBody>
                    <a:bodyPr lIns="9360" rIns="9360" tIns="36000" bIns="36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ның ішінд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4240">
                <a:tc>
                  <a:txBody>
                    <a:bodyPr lIns="9360" rIns="936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кәсіпкерлік және туризм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аппаратын ұстау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,38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,99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,99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,99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62160">
                <a:tc>
                  <a:txBody>
                    <a:bodyPr lIns="9360" rIns="936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кәсіпкерлік және туризм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аппаратын материально-техникалық  қамтамасыз ет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962160" y="474840"/>
            <a:ext cx="4647960" cy="62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Candara"/>
              </a:rPr>
              <a:t>Мәслихат аппаратының шығыстары бойынша бюджеттің атқарылуы</a:t>
            </a:r>
            <a:endParaRPr b="0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0" name="Прямоугольник 2"/>
          <p:cNvSpPr/>
          <p:nvPr/>
        </p:nvSpPr>
        <p:spPr>
          <a:xfrm>
            <a:off x="7887240" y="1309680"/>
            <a:ext cx="857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ff"/>
                </a:solidFill>
                <a:latin typeface="Arial"/>
              </a:rPr>
              <a:t>млн. тенг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AutoShape 4"/>
          <p:cNvSpPr/>
          <p:nvPr/>
        </p:nvSpPr>
        <p:spPr>
          <a:xfrm>
            <a:off x="1350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AutoShape 6"/>
          <p:cNvSpPr/>
          <p:nvPr/>
        </p:nvSpPr>
        <p:spPr>
          <a:xfrm>
            <a:off x="28728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Picture 8" descr="Картинки по запросу картинки бюджет"/>
          <p:cNvPicPr/>
          <p:nvPr/>
        </p:nvPicPr>
        <p:blipFill>
          <a:blip r:embed="rId1"/>
          <a:stretch/>
        </p:blipFill>
        <p:spPr>
          <a:xfrm>
            <a:off x="439560" y="474840"/>
            <a:ext cx="1447920" cy="96516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2" descr="Картинки по запросу картинки налоги и налогообложение"/>
          <p:cNvPicPr/>
          <p:nvPr/>
        </p:nvPicPr>
        <p:blipFill>
          <a:blip r:embed="rId2"/>
          <a:stretch/>
        </p:blipFill>
        <p:spPr>
          <a:xfrm>
            <a:off x="2173320" y="468360"/>
            <a:ext cx="1295280" cy="971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0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Альфия Ф. Садыкова</dc:creator>
  <dc:description/>
  <dc:language>en-US</dc:language>
  <cp:lastModifiedBy>User</cp:lastModifiedBy>
  <cp:lastPrinted>2020-06-29T10:54:18Z</cp:lastPrinted>
  <dcterms:modified xsi:type="dcterms:W3CDTF">2022-02-18T08:15:40Z</dcterms:modified>
  <cp:revision>89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