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F28-2967-47E4-8CAF-45245B6B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78C-0291-4049-9F5F-86CD5AC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FEF-DD46-4806-B2EC-63D3579A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202-5FA2-4CE6-BB86-9E265E84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3FF-3DB2-4574-BD49-AA838EFE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A94-9335-402E-B458-8F74415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69C-ACFE-4825-B663-905A4A5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CFD4-44B4-427A-998F-C4BDB2F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2B9-909B-4ECE-9A69-4FC8DBB4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16DC-ABFD-4AF3-A22F-487C3B9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5BC-C610-4A64-B658-A29E9D7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E06-50A2-4DF7-B7A9-34CAC8A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812-B19A-48FC-95B8-B396F943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1FE-B416-47E1-A4A6-38C7286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24F9-5B2E-4487-B656-9E0CC6F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517C-6DFE-4471-B291-18870AD3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4BED-0305-4DBB-B6C0-3429B440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A8F9-BB57-4521-A2F5-B8AB0E84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730A-FDE8-48D4-B9CF-3664741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4E96-EBB2-4B82-9934-20141033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B6FD-AB97-4125-893E-E8AAF62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2380-7EB0-494A-8F99-9F0F553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C13-A1CB-419A-B9AA-5734834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808D-96FB-499E-9B6A-6FF61B9D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8424-815F-41F0-804B-D21D6AF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D57F-B45E-4566-B7C1-F151293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E25B-6D80-4997-BEB0-F46A1BD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B4D5-C0F7-400D-AABE-908C408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8711-505A-45EC-939D-378085E1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F34D-8057-421C-A2B1-88AB7DC3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B97F-F81A-4E46-9BA0-208A2451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B017-E60B-4278-85D8-89C3612C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E794B-97EB-4295-A515-09BC8AE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724-451F-4F75-95E4-591D74E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2BD4-D317-47CC-86A1-C3A161CE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1D4B-93B3-4B9F-B9B5-06ECA5A5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4BA4-AC37-4742-91B2-3DE06407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5E45-529E-4A6D-94E1-6D66CEC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1183-C3EC-4FFD-BED1-CBB6583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847A-91D7-4A1F-B05C-6809EF5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7F771-D058-4881-9927-B5CBC0C8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EFDF-5F66-491B-A57C-3ACE212D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3B7B-817F-4395-92B9-73748E8F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48E8-E82E-462E-946D-39E2979F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CDE-C342-4FF6-9FF2-8963235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1D5C-283B-45AA-A358-CD93725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5391-0DB4-406F-877B-C80A7E0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B3CA-AC1E-41A7-AFEB-726E0DBC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9FC1-C277-4597-AE0C-BFA6BED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BECE-4CE3-4ACA-A91A-7827AF5E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0928-2DE1-434C-B413-2D24910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4574-F6B5-4DE8-8FC3-EB4196D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3570-7D92-4F72-B65C-74EA7BF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95DF-C5F0-474F-82C5-C392A83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9A75-5DB4-46DD-B055-372F1A8E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205-3F7C-4D47-BC04-C1CB583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4D0F-2BB1-48F1-B8F1-DCA3BD16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74CC-0755-4786-BA96-1174886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6636-26CC-4D29-AC3B-F9B8448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9A96-0813-4BAF-B9AF-61437854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FCD9-E2CC-4D47-8E7F-3FB28B1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FF697-D7E7-4A5B-B967-F9817D9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487D-9307-4638-B840-7B24414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58CB-815D-44D1-BBAD-27F05BAB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48D0-F4CB-42E3-B081-D3E0803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0B33-FAB2-487D-B6C1-C4F9F59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AD7-EE3B-460D-9250-CF5BAD5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4B9B-80F1-4B33-9B99-ED636332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6AB8-C4B2-4876-8251-421EAD64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7119-8C9F-41FE-8BA5-D7219EE7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C3DD-B69E-49C3-86B4-D78337AF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AC50-0749-41D4-A904-87C2CB3F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21DB-69D0-4230-AD5A-A45CCF2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4286-4076-4A5F-9DF4-29B88DE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A07A-A79D-4EB5-B1D8-D91CF32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DD80-D967-4DC0-8F43-9A8F9D1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3199C-4970-4D57-83FE-BEA1796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C14-BC83-4008-9D09-5493C7F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3C398-DEAA-4A0D-8491-CC3AB4B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B7BD4-1505-440D-A3DA-3C1ED02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49003-93FF-47E3-A35C-D30EEA40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77A2-8741-41C5-BEDA-A1F3F89B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FACA-277D-4849-8825-7A033640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698-5A64-40BF-B1AF-C8CB3DE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791-2A49-4F69-A606-AFF3DEE9D08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A019-FD9B-4D9B-8611-1E6DB5E738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086D-AD80-41A1-AF04-EDE220DB936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BE2-3BEC-40E3-9654-4572ED98B2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5F3D-C468-4A24-BDA4-2ABDB2B466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429-E4BD-4A6E-8735-41B79EBFFDA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099-C875-448D-B0A1-6CDC9ABD82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Исполнение бюджета               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Аппарата отдела предпринимательства и туризма акимата  Айыртауского района СКО  на 01.01.20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76040" y="762120"/>
            <a:ext cx="8944200" cy="5906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е документы по исполнению бюджет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135000" y="2057400"/>
          <a:ext cx="8762760" cy="3672000"/>
        </p:xfrm>
        <a:graphic>
          <a:graphicData uri="http://schemas.openxmlformats.org/drawingml/2006/table">
            <a:tbl>
              <a:tblPr/>
              <a:tblGrid>
                <a:gridCol w="2361960"/>
                <a:gridCol w="762120"/>
                <a:gridCol w="762120"/>
                <a:gridCol w="761760"/>
                <a:gridCol w="914400"/>
                <a:gridCol w="914400"/>
                <a:gridCol w="838440"/>
                <a:gridCol w="533160"/>
                <a:gridCol w="914400"/>
              </a:tblGrid>
              <a:tr h="46152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ое исполн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1 янва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четный период 202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на 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год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1.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аппарата отдела предпринимательства и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ое оснащение аппарата маслих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Исполнение бюджета по расходам  отдела предпринимательства и туризма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2-18T08:12:59Z</dcterms:modified>
  <cp:revision>8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