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0D1-FD75-4FE1-884C-0F61BC0E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1F1-0792-4965-BD38-54C3EA46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37F-175A-4B60-8FF7-31A97A7B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4B3-5E1D-4FE4-BE3E-47DCE5F4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A204-6797-4120-AF2B-F3135D8C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03F0-D6F6-4FBB-B546-A89DD7A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275A-4C47-4279-9F23-FF63876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DF10-71B7-4847-B763-D7F7125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8EEC-E4A9-4EAA-B950-6B3C937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73FD-7DBE-4E9B-819C-64D3968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6966-794B-4979-AEA4-1CD6B42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D77-4DA3-4038-B575-693A794F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1C0C-6C2C-46A5-9EB7-A37E6A8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5785-82F3-4FF2-88D0-A04CA19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8603-169D-4575-A6AA-D08260D4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490A-1B42-4620-A875-5FAAE350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CD4-EE23-418B-A25E-C02BAAD4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4C67-E448-4411-BDDA-B5BCBBA3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3A2E-6722-482C-9563-6868048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287F-FB22-4404-89A2-FB5EE5E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19EA-2975-46F3-919C-E517E9E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73F0-26E9-4884-872B-A5F51A6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596-614B-4F0C-90E2-4749959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85AF-F69D-410A-B086-93CEC25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F9E5-EEC1-44C1-BEDA-BC62A12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BA58-489C-4F05-A558-863A100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69A2-4BEF-4315-A91A-E67479D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5204-03AE-42D8-99B5-75F7285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610A-B14C-4E4B-8810-5437131D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7AED-AC83-42AF-B76A-21466934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D902-F2AB-45D7-B2D0-ABA7DFF9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5622-6CA2-4012-A847-BB74605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C907-43C1-4226-AA47-0C0B82B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948-5185-44AB-A94E-4E2B1BD2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217D-45B9-447E-985B-D388A5E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EC1C-9E4D-4D35-8D04-7D75BDB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CF72-5615-4CB0-8050-78D92A82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915C-7833-4F62-94AE-50887CF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F75F-2E31-4660-B7F8-776D55E3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4D4D-7BA7-4C3B-A61E-A0C0F2E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87CF-E605-4453-8B98-0ECAC254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DCB4-2B41-4578-B8A0-E6E5F883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BBE6-A4D0-442F-9C71-AB8F9440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8E9C-0D6F-441A-9934-0C9A2F72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2E8-8C65-47D5-85CD-F547D8D1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53E1-0335-402F-8DF8-4D5486F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8BDE-3BBD-4ED9-8451-C2CAFF0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3BA3-C199-4A9F-A74B-BAB72B9F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5CD4-AE02-493F-BE2A-8501A99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C3912-AC6E-470D-B7F8-CE2D9586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7BC7-7577-4699-8B17-D6D8F93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BBDB-164E-421D-9492-9EBAB56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91191-8B0E-402D-90C4-7E66B8B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A22D-6DC7-4D56-B529-8F2277CA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EC6A-C813-419E-B86D-3A5711E5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8D9-5B8E-4DF2-9B0B-08C8056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EAC8-38A2-46CC-ABA3-394993D7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99EB-AED3-475B-8372-9A9C4094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71FD-A5E5-4C49-AF19-206B10AE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A6C44-4CB6-49ED-9524-9D95294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B460-ED0F-4FA4-B206-3B1D378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C5C7-9911-4222-9711-3C4DAAB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452F-CCB3-4A76-A82E-50CC4637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105B-0E40-42AF-9C69-D2B66E9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0319-7227-4FC6-8CFB-1A294A0A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DD3B-76DE-4092-82D9-768CDABA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2F2-65D7-4496-A698-9F4E76B7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445EC-5E5D-4FE2-B776-B89E8AD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28D6-9B57-4FCF-BD93-D5346683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65D3-6564-47A5-9C87-AE17847A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676AE-B35D-4D49-A63D-F0666E84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2E4E9-642A-4896-AFF8-0743538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1176-F5CB-490D-B821-59C42C93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DACE-7B1E-48F4-836C-834AE97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62161-F1D0-4AF9-B94D-49AD60B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B7D5-3B1C-430A-A131-C1157F55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F7D49-E8DA-4B95-AACF-643B5C0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F92-4B0E-44F7-96F9-0A9E3586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647D-2A8B-4403-ABC5-5B2604D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B465D-A071-408F-A1D4-F15EB86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3B89-E36D-48A5-9B4D-129000A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8F71-AB1B-4CA4-9C0B-BB75505F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1A1F-FFBD-402C-99E9-AC782CB6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42E-9F00-488F-9931-396B02D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D9E4-AAF7-45D8-BA1A-243531569E5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FF5C-671C-4FA8-8912-9B1050D413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3B1-8949-48DE-8910-7E152F619A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645E-321E-481F-9370-4862036972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C22-BDAE-46B9-9022-701BEA6FE9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F572-5500-4929-BCA6-E36BE67C2A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456-A920-4623-9BB8-0C65B9CB93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Бюджеттің орындалуы     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ҚО Айыртау ауд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сіпкерлік және туриз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01.03.2022 жылға арна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978760" cy="5840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юджеттің орындалуы бойынша негізгі құжаттар 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1752480"/>
          <a:ext cx="8610480" cy="3048120"/>
        </p:xfrm>
        <a:graphic>
          <a:graphicData uri="http://schemas.openxmlformats.org/drawingml/2006/table">
            <a:tbl>
              <a:tblPr/>
              <a:tblGrid>
                <a:gridCol w="2362320"/>
                <a:gridCol w="761760"/>
                <a:gridCol w="685800"/>
                <a:gridCol w="685800"/>
                <a:gridCol w="914400"/>
                <a:gridCol w="762120"/>
                <a:gridCol w="838080"/>
                <a:gridCol w="762120"/>
                <a:gridCol w="838080"/>
              </a:tblGrid>
              <a:tr h="4604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ау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қты орындау 1 қаңтарғ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жылғы есептік кезе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ылдық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-ға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қты орында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 (жы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(1.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қ шығыста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ың ішін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әсіпкерлік және туризм аппаратын ұст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Мәслихат аппаратының шығыстары бойынша бюджеттің атқарылуы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3-16T04:44:17Z</dcterms:modified>
  <cp:revision>8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