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F8F1-B388-48AE-B2E5-8423E0A4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95D7-48B4-46EF-BBA0-EC8BFFB5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C522-E80B-430E-AB66-55E78216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9A3C-42BB-4502-9617-1F8C1284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45E2-92BE-40C6-84DA-8A715F7E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C729-B60C-43C7-8E1F-C9FA2C71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CDC8-B678-45EC-8A73-B84CF5D9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B0A2-08F4-4681-8EA8-D46A6354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8719-BB2E-4899-916C-2FE351D0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FB02-AE2D-41F4-98C4-96B9654F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8366-FFBE-4D0B-876E-DEF6EC07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7577-59F8-488F-85E5-EB1B9468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18EE-F45F-4A5D-98F8-58BB7ACA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8D35-6343-4457-B54B-41360ED9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3CAE-A666-41BC-85B4-D3A6B6EC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7E1A-18A0-4B39-BDB0-6B606F7A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A4B9-F4DB-4A5C-9C27-FE85DB3C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87320-49F4-4913-8B6D-561D116C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B408D-F717-4513-833E-E94E316D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FC6A8-09E7-442C-869B-F125E665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DE174-8B19-4AEB-9AA7-F2FDAED1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6C7AA-70E6-41A1-87C3-5045E930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DD1F-0378-4B1E-AEEB-1A887C3A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8542B-5144-4039-888A-A67C63E5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1527D-0F64-4DAA-B22A-342B2F13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94F9E-8E53-4FA1-8199-1B1E04AB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AD683-3AC0-4FFA-BF44-E1F1EA23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548AB-A86B-479E-BC15-F37E25BA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88C26-9153-42D5-9B0A-F421D823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0B636-D38A-43BE-9E63-A2D5DA49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C4257-C5D4-40FA-8BA5-8BF23C76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0BF0D-6AAC-445D-AA77-E6EDC1F4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6F70F-0C9C-4CEA-9078-A0977002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F47F-BC25-41E0-8F75-F239D62F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8A388-379B-44BE-8113-9AB41CF2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16C37-559D-4A73-967B-0E782363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F40C3-AED4-4715-9800-93E6AC6E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03372-EE13-4638-A85E-BFEEC4EC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BFF74-5C51-4369-8FB9-781EDD79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18022-7364-48CA-8380-D3F8C29D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E3F97-4A75-4CAC-BDF3-B092BABF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2BB9D-7176-4ED9-A1DD-9934E832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06BAA-41AB-4B43-8D0F-8D9C8E56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7B4DD-63B8-4B73-9AD1-BCE8E234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2E9A-B4A6-4786-BB6E-08373C40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98E5F-D45C-419C-A9F8-64405F37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86229-43BB-45B8-A8B4-D877A2B4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D5691-B1D4-4413-8D61-1DB9F644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BA10D-AC33-4757-91A1-B82ACC0C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5CAFB-4FA0-4958-9B2E-25B04958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E2D3B-0A9E-49C3-A279-D217EE5C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AAEEE-AF40-4D6D-8615-4D201424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B62FB-E573-4A3B-9C2D-8D96DA8E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0AFC9-66EC-4AAC-A1B7-26FC50DE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2ADAC-21E2-48DA-9F67-B8EB7BEE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7EB4-C33C-43B4-8F14-191E95F2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30368-E487-4A80-8D87-4F4D8F2F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03E8A-3B34-4B6B-9648-A4D140F6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9B5BD-E667-479A-9F8F-4423C5CA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098A3-77B2-439E-A32F-9D6E2F24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2DFCA-C529-45D8-8B6F-81920812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BDAAB-904F-49A3-AA16-D80B1DDF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59F2A-3081-4CEB-9D35-F8F8C6A5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64ED9-0F64-44E0-B550-DDD3179D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EC1E5-4783-4684-9ECF-E564B4F8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A904E-0D80-4624-815D-277DE33D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6F88-3675-497D-B22E-46D71DD7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1CAB9-7E33-4D5C-AF86-6A132FEA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A6611-FC68-4006-AD2F-8736B926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1A5BC-F265-40D2-85E5-33F0DA17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D4364-1F54-4CB1-A627-863A4BCD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39811-93C3-4F26-B7DF-9C69DE20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3188B-6938-4498-A21C-86BEE689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97502-5365-43A6-B4AE-CBD32F78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9B504-34AF-4E79-84CE-FF569AD7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45B60-948F-4734-A35C-335D74F9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11A86-22B1-480B-BBEA-493136C2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857D-FB90-4777-8A00-7AA674B5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B93EF-4142-4741-8E4C-F1F42C1C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E0A5C-3179-4B78-A652-4EDFE56F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A08E9-C6AB-49AF-A973-5563A987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881B0-428D-45B1-8AE6-6FCD9537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88E7C-09BB-4D5B-AED1-2E6AB219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B41-EDCB-4B91-BDFE-521514F4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3113-77D9-4F78-9CFC-F5CE6DB349C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FE3C-E1AC-462F-B8A0-DA2BC3ADDD4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28C8-22C8-4AE2-B8DF-2E15A9634E9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F106-678E-4185-81A3-0DB396C0E85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0C65-B315-4366-98F2-EBD02482A83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1986-5DCF-4721-B2C8-D5728535836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6DE8-2F0A-42AB-9CBA-A9C0120A18A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Заголовок 1"/>
          <p:cNvSpPr/>
          <p:nvPr/>
        </p:nvSpPr>
        <p:spPr>
          <a:xfrm>
            <a:off x="304920" y="2438280"/>
            <a:ext cx="8610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Calibri"/>
              </a:rPr>
              <a:t>Исполнение бюджета                </a:t>
            </a: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Аппарата отдела предпринимательства и туризма акимата  Айыртауского района СКО  на 01.03.202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Схема 2" descr=""/>
          <p:cNvPicPr/>
          <p:nvPr/>
        </p:nvPicPr>
        <p:blipFill>
          <a:blip r:embed="rId1"/>
          <a:stretch/>
        </p:blipFill>
        <p:spPr>
          <a:xfrm>
            <a:off x="176040" y="762120"/>
            <a:ext cx="8944200" cy="59068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Основные документы по исполнению бюджета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135000" y="2057400"/>
          <a:ext cx="8762760" cy="2746440"/>
        </p:xfrm>
        <a:graphic>
          <a:graphicData uri="http://schemas.openxmlformats.org/drawingml/2006/table">
            <a:tbl>
              <a:tblPr/>
              <a:tblGrid>
                <a:gridCol w="2361960"/>
                <a:gridCol w="762120"/>
                <a:gridCol w="762120"/>
                <a:gridCol w="761760"/>
                <a:gridCol w="914400"/>
                <a:gridCol w="914400"/>
                <a:gridCol w="838440"/>
                <a:gridCol w="533160"/>
                <a:gridCol w="914400"/>
              </a:tblGrid>
              <a:tr h="461520"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ическое исполне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1 мар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четный период 2021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довой 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 на 1.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 на 1.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исп.-я (год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исп.-я (1.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360" rIns="936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РАСХОД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360" rIns="936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360" rIns="936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аппарата отдела предпринимательства и туриз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962160" y="474840"/>
            <a:ext cx="464796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ndara"/>
              </a:rPr>
              <a:t>Исполнение бюджета по расходам  отдела предпринимательства и туризма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Прямоугольник 2"/>
          <p:cNvSpPr/>
          <p:nvPr/>
        </p:nvSpPr>
        <p:spPr>
          <a:xfrm>
            <a:off x="7887240" y="1309680"/>
            <a:ext cx="85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ff"/>
                </a:solidFill>
                <a:latin typeface="Arial"/>
              </a:rPr>
              <a:t>млн. тенг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1350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28728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Картинки по запросу картинки бюджет"/>
          <p:cNvPicPr/>
          <p:nvPr/>
        </p:nvPicPr>
        <p:blipFill>
          <a:blip r:embed="rId1"/>
          <a:stretch/>
        </p:blipFill>
        <p:spPr>
          <a:xfrm>
            <a:off x="439560" y="474840"/>
            <a:ext cx="1447920" cy="965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Картинки по запросу картинки налоги и налогообложение"/>
          <p:cNvPicPr/>
          <p:nvPr/>
        </p:nvPicPr>
        <p:blipFill>
          <a:blip r:embed="rId2"/>
          <a:stretch/>
        </p:blipFill>
        <p:spPr>
          <a:xfrm>
            <a:off x="2173320" y="468360"/>
            <a:ext cx="1295280" cy="97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User</cp:lastModifiedBy>
  <cp:lastPrinted>2020-06-29T10:54:18Z</cp:lastPrinted>
  <dcterms:modified xsi:type="dcterms:W3CDTF">2022-03-16T04:43:00Z</dcterms:modified>
  <cp:revision>8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