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8F93E-930C-4739-AEB9-72BC008DD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004C7-A416-4E99-9E79-E4D9EEE98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CE049-BA74-4017-A336-F94C957C7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28B2C-EEBB-438B-9D2D-807A74303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4C55C-F27A-4863-84BD-9EC23A62C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DAEC6-2CAF-47B3-8B18-FFBCD244E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45C0F-DFB0-4B7C-BF44-39624C8FC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D3BCA-FE06-4B16-A852-93D4050D8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1CF03-D7E8-48E4-8B4C-A39F10D57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39E5D-3DE4-4652-8E78-7DBF76935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2D053-2CAE-4A94-A8D9-115C955A6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70E64-9CC3-4C6A-927C-F4C23F0DE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960B6-FD0F-45F0-92E5-368443F48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99145-0BEF-44E8-8E44-06C9CB2EB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98E61-492D-4CE1-A7BA-A313990D1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B5E52-0072-4DF7-9C2D-3EABE33A6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BAC0D-34D0-414E-90BC-9018B0FC1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21B411-0EAD-4D5C-8080-AAB950151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797E6E-1E97-4F9F-B220-CD8876DB3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934EF1-2559-4482-BF84-C8CAD530F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F5C395-8EE6-4C86-AA17-7330849AD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A966DC-A16B-4813-87F2-6D51C4C29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1540A-77CB-4D3A-881B-196095CBB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97AFE3-F3E9-4F6C-9A13-913F3FA42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4D06AB-1AE5-41D5-AB54-DC91356FD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283F01-16C9-4D75-A7F5-343F32AF6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1EFC26-71FB-46D0-9DEF-278A27050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27592B-7780-414B-ACE9-20BE8EE0C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396355-B63F-4E59-B87E-8DCF52FF6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59064A-8625-4FD1-9540-0AEB2EAD1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6A3265-50B0-4672-B86C-18EEC0013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1D1BFC-067F-4F8B-AA47-9C7ECAB17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130C3A-8127-4375-B404-D0E43C991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8ADEA-4C32-44F2-8B8E-2FC01BDE2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0BC4C9-604B-45B4-A8FA-934B43BA7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1D129C-13A5-4834-950E-2A0E36044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42008A-53A8-485A-8345-0904826AC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2DA7D1-897A-4E10-9118-F8BF0416F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C57DDD-B217-4241-B449-F3E08318A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4EDBA8-EBD4-47BB-B0B0-80CE378C1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1DE798-1BAB-4E4F-9591-8135ACB1A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1AB699-23ED-489B-8785-3962ABC0D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67662D-B991-49D6-93F2-92916667B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AA0B3C-48E0-4332-B42F-DBCC7FE30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B217F-7AB7-4A76-B997-09D113BA5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8C763D-2806-467B-B636-9992A5AE1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33921A-EA53-440C-8AEA-9EEC60BE4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C9DDF8-1C48-48E1-A802-F381D78C4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3E94D0-2DBA-407A-9D3E-B1E3CFD5A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ADE280-9C45-46E7-84FC-EB6301FB5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1B774C-BB68-447F-B8F9-1224B2E8C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93EF15-4542-4039-9881-1010D306D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33A513-425D-41D6-9A1F-260A5F65B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5B2E6E-DCD8-410C-B104-E149F4828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2C5DE4-F5F2-49AF-A90B-172F2DDBF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D5756-BCB7-4F44-A0D7-9BF4B1F6B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4014FF-058D-4660-8F76-76B568F76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A1E78F-C040-406F-A845-AF0BE93C4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3C3D21-F673-4693-A025-F3EF91A61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7631A7-4C65-4085-B111-835883C51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EB2ABB-FC15-4495-8D62-BBAC3F6FF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267D36-BEC2-4E7B-929A-01B3A407F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ADEB9D-5D0F-4B68-9140-7100097A8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6C595F-2FA9-47FB-BD7E-064CB6113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834E8D-0F85-4AD2-A89D-C8B538128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6CB301-D072-4F97-BB53-F42878E99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C65EB-7677-46D8-B45C-2ECC0F8A7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C14A29-39A5-4D78-B980-0CD753CC9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69DE59-5E8C-47BF-9DB2-971B70DD1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843D77-92DB-4CF7-8C27-4B20697D1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BD9AAF-1AE7-427F-8EB1-9E90954E8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4F7266-D309-483A-94CF-68AD94C90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234A18-FB75-4935-8D3C-032ACD80E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8883D6-5362-494F-8739-482D6FEC5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7363AF-C32E-4763-8209-06AD6CC07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B4DEC5-BBF7-4214-B19A-D9600E0AF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6CB5A9-305D-41A2-9872-DA4EBF60D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C9A53-D12A-4095-B387-F3CDA37EF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74AEA6-F11E-405F-AEB7-DDC212B43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35D975-96DE-4951-B8E3-C7D678FBC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9397E2-B431-4AA4-86C1-A37F67B3D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4A6D62-3C52-45CF-8C57-F5E9BD736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84255B-AC17-442B-A781-2AAC381F5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3B660-EC36-446D-A3F4-D70634DAB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3760"/>
              <a:ext cx="2876400" cy="71460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9000" y="1696680"/>
              <a:ext cx="5543640" cy="8496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880" y="1707840"/>
              <a:ext cx="546768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5240"/>
              <a:ext cx="3308400" cy="6508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F5BCE-ADE7-4382-85E9-02C5974AA410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840" y="5499000"/>
              <a:ext cx="287964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2240" y="5371920"/>
              <a:ext cx="5551560" cy="84924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760" y="5383080"/>
              <a:ext cx="547380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720" y="5370480"/>
              <a:ext cx="3311640" cy="6508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9BB8E-A6D4-4A15-95A9-4F0886DB57FC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6B486-5B30-4AB7-80F2-08E45364C89B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8600"/>
              <a:ext cx="2876400" cy="71460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9000" y="731520"/>
              <a:ext cx="5543640" cy="8496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880" y="742680"/>
              <a:ext cx="546768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30080"/>
              <a:ext cx="3308400" cy="6508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C608D-5A0C-40A3-8C9C-DA4D3C1C30BF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840" y="860040"/>
              <a:ext cx="2879640" cy="71460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2240" y="731520"/>
              <a:ext cx="5551560" cy="85104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760" y="742680"/>
              <a:ext cx="5473800" cy="7765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720" y="730080"/>
              <a:ext cx="331164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AE996-EA80-4E71-A78D-CAF21CD7A27B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840" y="5499000"/>
              <a:ext cx="287964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2240" y="5371920"/>
              <a:ext cx="5551560" cy="84924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760" y="5383080"/>
              <a:ext cx="547380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720" y="5370480"/>
              <a:ext cx="3311640" cy="6508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887BD-001D-4464-BC24-468C93D8D42E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840" y="860040"/>
              <a:ext cx="2879640" cy="71460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2240" y="731520"/>
              <a:ext cx="5551560" cy="85104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760" y="742680"/>
              <a:ext cx="5473800" cy="7765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720" y="730080"/>
              <a:ext cx="331164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6D278-C741-4E0E-BC8B-E3369D44FE0A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Заголовок 1"/>
          <p:cNvSpPr/>
          <p:nvPr/>
        </p:nvSpPr>
        <p:spPr>
          <a:xfrm>
            <a:off x="304920" y="2438280"/>
            <a:ext cx="861048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33cc"/>
                </a:solidFill>
                <a:latin typeface="Calibri"/>
              </a:rPr>
              <a:t>Исполнение бюджета                </a:t>
            </a:r>
            <a:r>
              <a:rPr b="1" lang="ru-RU" sz="2000" spc="-1" strike="noStrike">
                <a:solidFill>
                  <a:srgbClr val="0033cc"/>
                </a:solidFill>
                <a:latin typeface="Calibri"/>
              </a:rPr>
              <a:t>Аппарата отдела предпринимательства и туризма акимата  Айыртауского района СКО  на 01.04.2022 г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Схема 2" descr=""/>
          <p:cNvPicPr/>
          <p:nvPr/>
        </p:nvPicPr>
        <p:blipFill>
          <a:blip r:embed="rId1"/>
          <a:stretch/>
        </p:blipFill>
        <p:spPr>
          <a:xfrm>
            <a:off x="176040" y="762120"/>
            <a:ext cx="8944200" cy="5906880"/>
          </a:xfrm>
          <a:prstGeom prst="rect">
            <a:avLst/>
          </a:prstGeom>
          <a:ln w="0">
            <a:noFill/>
          </a:ln>
        </p:spPr>
      </p:pic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61048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ndara"/>
              </a:rPr>
              <a:t>Основные документы по исполнению бюджета</a:t>
            </a:r>
            <a:endParaRPr b="0" lang="en-US" sz="20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8" name=""/>
          <p:cNvGraphicFramePr/>
          <p:nvPr/>
        </p:nvGraphicFramePr>
        <p:xfrm>
          <a:off x="135000" y="2057400"/>
          <a:ext cx="8762760" cy="2746440"/>
        </p:xfrm>
        <a:graphic>
          <a:graphicData uri="http://schemas.openxmlformats.org/drawingml/2006/table">
            <a:tbl>
              <a:tblPr/>
              <a:tblGrid>
                <a:gridCol w="2361960"/>
                <a:gridCol w="762120"/>
                <a:gridCol w="762120"/>
                <a:gridCol w="761760"/>
                <a:gridCol w="914400"/>
                <a:gridCol w="914400"/>
                <a:gridCol w="838440"/>
                <a:gridCol w="533160"/>
                <a:gridCol w="914400"/>
              </a:tblGrid>
              <a:tr h="461520">
                <a:tc rowSpan="2"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аименова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Фактическое исполнение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а 1 апрел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тчетный период 2021 год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61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19 год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20 год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21 год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Годовой пла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лан на 1.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Факт на 1.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% исп.-я (год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% исп.-я (1.0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9360" rIns="9360" tIns="36000" bIns="36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ЕГО РАСХОДЫ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</a:t>
                      </a:r>
                      <a:r>
                        <a:rPr b="1" lang="kk-K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720">
                <a:tc>
                  <a:txBody>
                    <a:bodyPr lIns="9360" rIns="9360" tIns="36000" bIns="36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том числ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4840">
                <a:tc>
                  <a:txBody>
                    <a:bodyPr lIns="9360" rIns="9360" tIns="36000" bIns="36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держание аппарата отдела предпринимательства и туризм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</a:t>
                      </a:r>
                      <a:r>
                        <a:rPr b="1" lang="kk-K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962160" y="474840"/>
            <a:ext cx="4647960" cy="62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Candara"/>
              </a:rPr>
              <a:t>Исполнение бюджета по расходам  отдела предпринимательства и туризма</a:t>
            </a:r>
            <a:endParaRPr b="0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0" name="Прямоугольник 2"/>
          <p:cNvSpPr/>
          <p:nvPr/>
        </p:nvSpPr>
        <p:spPr>
          <a:xfrm>
            <a:off x="7887240" y="1309680"/>
            <a:ext cx="857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ff"/>
                </a:solidFill>
                <a:latin typeface="Arial"/>
              </a:rPr>
              <a:t>млн. тенг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AutoShape 4"/>
          <p:cNvSpPr/>
          <p:nvPr/>
        </p:nvSpPr>
        <p:spPr>
          <a:xfrm>
            <a:off x="1350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AutoShape 6"/>
          <p:cNvSpPr/>
          <p:nvPr/>
        </p:nvSpPr>
        <p:spPr>
          <a:xfrm>
            <a:off x="28728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Picture 8" descr="Картинки по запросу картинки бюджет"/>
          <p:cNvPicPr/>
          <p:nvPr/>
        </p:nvPicPr>
        <p:blipFill>
          <a:blip r:embed="rId1"/>
          <a:stretch/>
        </p:blipFill>
        <p:spPr>
          <a:xfrm>
            <a:off x="439560" y="474840"/>
            <a:ext cx="1447920" cy="96516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2" descr="Картинки по запросу картинки налоги и налогообложение"/>
          <p:cNvPicPr/>
          <p:nvPr/>
        </p:nvPicPr>
        <p:blipFill>
          <a:blip r:embed="rId2"/>
          <a:stretch/>
        </p:blipFill>
        <p:spPr>
          <a:xfrm>
            <a:off x="2173320" y="468360"/>
            <a:ext cx="1295280" cy="971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Альфия Ф. Садыкова</dc:creator>
  <dc:description/>
  <dc:language>en-US</dc:language>
  <cp:lastModifiedBy>User</cp:lastModifiedBy>
  <cp:lastPrinted>2020-06-29T10:54:18Z</cp:lastPrinted>
  <dcterms:modified xsi:type="dcterms:W3CDTF">2022-04-19T13:26:13Z</dcterms:modified>
  <cp:revision>87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