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328-F028-41B4-B18B-8C2FA6F0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D33-CA28-46DD-8434-27DFF31A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9AC-D1CE-4F1D-94F3-BF69ACD8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194-93AA-4F59-AB71-88197A39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6EDE-197E-440D-A94B-62E0A60E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C88B-66A1-4E0F-AEC0-8D1456C2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A434-07C6-455A-AF48-D75E94EF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E03B-F3D5-4227-9774-BB1F86D8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CE65-C341-4C5F-AC95-6D836776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81C8-9E4F-4B20-9992-F5EF5892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D10C-E503-44DA-8061-D2296995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DC2-5F9C-4B7C-8199-4FCB1DB8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B847-FC19-4E92-949C-F3FBD1A6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90DB-15FA-4429-B248-CC2E2869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F6A0-7920-477A-84B1-8FF0B56E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839F-3B88-4632-A8F0-9AA407B8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7F2A-922B-4E3D-BC81-BB76ABDF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EE3C-6755-4FA4-A99D-F4C11399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35958-1EFB-43D2-9BC0-D7203718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E8C0-1A3E-47DF-8959-00AC1FFF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769C-9228-45E5-B9A5-86D3E143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5684-F78B-47C1-BE41-BEA86B93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33D-3027-40FF-BE8F-9FB39D2E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E57E-A62E-498E-9497-BBE7AC9D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AD99-A655-41F3-807D-B42EC00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9B4A-2C2A-46B6-912F-23309DD6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ACF4-CEAE-4C1D-BD62-4202B2F7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C9CF-AB57-4056-BBED-292580DB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2020-0CA2-4522-B678-62ECC96F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23DF-0CF1-41D2-ACB5-903588BB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344CD-6424-442E-B58A-7CFF5033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FA50-7697-4AFF-AF6B-649AB15B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8B335-FBF0-4ECA-8163-6A032FBC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2B1-D53F-49B5-A1B2-89213800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D7811-000E-491C-B604-B948E84E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CE231-4967-445F-ABC8-A6FDFDE7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9D440-F26C-4028-891E-ACE81B0F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C881E-E3EC-4F07-9CC9-0F0261DE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96B7-71A4-4A05-AFC6-A1795579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651C9-165D-4A3F-8FF7-3B83BC56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176D-9511-4204-89AE-374EC100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18EA-4404-423A-BD1E-730FDE65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0E2B-AEEF-4E99-BDDC-71A79CC4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CA3C2-04B6-4B8C-B57E-5C08DC86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2A8-EBD0-4B96-9208-94F411B0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3A1B-417C-4392-95C4-F9E7DC99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172E4-7344-4B32-82EB-E674A2B9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1BC53-AEE4-4B3B-83A1-DE1A29D8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2FE54-5A60-4341-AD27-784C6508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A49F5-032E-4D96-AF14-69863210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E0690-0210-495B-A5CC-F7054933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F31F-8365-43C2-9803-671034B4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3638F-B22F-4E91-8E2A-182686FB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A120C-5306-4CD6-9761-88F4142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D1A2A-BB32-401D-84B3-6FF24805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D9F-EC7F-4454-9CD6-F662D2D1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4C2EF-B0A1-42CB-9061-7E08CBC6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03063-C6F2-49C0-B838-1108667E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39EAA-B591-4862-A938-40510B1E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A61EC-E070-41CE-8FA0-B1C15E68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2D460-FFBC-4B91-AC11-EB9F72A0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BF49C-4669-4160-A1BE-4CCCDC61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2C673-2C9B-4FE7-8DE0-3D217F62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1DE2C-1A8F-41CA-9592-B0DB2361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32DDC-1E7F-4A04-A1BB-2D65372A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74D83-6897-499B-9DE7-B8A3124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344-AD97-480D-99A7-3966AEBA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E9433-6AD4-4453-A873-5E402559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2C03E-8EE2-4E95-8C5E-D73645F1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73EF6-B8C4-4077-801E-CAB02315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BCA75-B66D-4390-A70B-3262A283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6216A-FED8-45A1-824E-62E47492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E92BF-EE34-49B5-9D29-0515B526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7CCD4-2912-4753-920D-5E0EFE0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F307A-CE73-4E04-A158-46223D83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6F5DD-6470-484A-B00A-714A073D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0B2C4-CDDC-4B3A-B4EC-1151B252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F96-357F-46BD-98A6-7C44AFF0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4BEE4-B028-4D26-BE15-FB44AB80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01FA9-A775-4C9B-9273-3479D66A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100E7-4DF1-441B-845D-464061B2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44B88-F672-4D64-B4A2-578C8E3F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64E17-FE55-4654-83BE-6199CBAC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210-EA24-4A55-8C5A-C445797B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7BEE-FFC6-4545-87B8-3F76E7A9314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D0FA-1DB4-42F0-9D26-0A35CCBE86F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BEF0-5221-4807-9266-CF7611CC1E7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558E-63BC-4D06-99C3-DE7A4FB3779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5C64-1842-418A-BB4A-530E98A4F82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2376-759C-4F93-8F44-EF210F757B8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A1C7-6060-4D43-AE74-93154CDE505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Заголовок 1"/>
          <p:cNvSpPr/>
          <p:nvPr/>
        </p:nvSpPr>
        <p:spPr>
          <a:xfrm>
            <a:off x="304920" y="2438280"/>
            <a:ext cx="8610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Calibri"/>
              </a:rPr>
              <a:t>Бюджеттің орындалуы               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ҚО Айыртау аудан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әсіпкерлік және туризм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01.05.2022 жылға арна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хема 2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978760" cy="58402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Бюджеттің орындалуы бойынша негізгі құжаттар 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228600" y="1752480"/>
          <a:ext cx="8610480" cy="3048120"/>
        </p:xfrm>
        <a:graphic>
          <a:graphicData uri="http://schemas.openxmlformats.org/drawingml/2006/table">
            <a:tbl>
              <a:tblPr/>
              <a:tblGrid>
                <a:gridCol w="2362320"/>
                <a:gridCol w="761760"/>
                <a:gridCol w="685800"/>
                <a:gridCol w="685800"/>
                <a:gridCol w="914400"/>
                <a:gridCol w="762120"/>
                <a:gridCol w="838080"/>
                <a:gridCol w="762120"/>
                <a:gridCol w="838080"/>
              </a:tblGrid>
              <a:tr h="46044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тау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ақты орындау 1 қаңтарғ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 жылғы есептік кезе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ылдық жосп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-ға жосп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қты орында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атқарылу (жыл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атқарылу(1.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лық шығыстар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ың ішін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әсіпкерлік және туризм аппаратын ұст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2160" y="474840"/>
            <a:ext cx="46479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ndara"/>
              </a:rPr>
              <a:t>Мәслихат аппаратының шығыстары бойынша бюджеттің атқарылуы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7887240" y="130968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млн. тенг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1350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2872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Картинки по запросу картинки бюджет"/>
          <p:cNvPicPr/>
          <p:nvPr/>
        </p:nvPicPr>
        <p:blipFill>
          <a:blip r:embed="rId1"/>
          <a:stretch/>
        </p:blipFill>
        <p:spPr>
          <a:xfrm>
            <a:off x="439560" y="47484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Картинки по запросу картинки налоги и налогообложение"/>
          <p:cNvPicPr/>
          <p:nvPr/>
        </p:nvPicPr>
        <p:blipFill>
          <a:blip r:embed="rId2"/>
          <a:stretch/>
        </p:blipFill>
        <p:spPr>
          <a:xfrm>
            <a:off x="2173320" y="468360"/>
            <a:ext cx="1295280" cy="9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User</cp:lastModifiedBy>
  <cp:lastPrinted>2020-06-29T10:54:18Z</cp:lastPrinted>
  <dcterms:modified xsi:type="dcterms:W3CDTF">2022-05-22T08:02:11Z</dcterms:modified>
  <cp:revision>8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