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0D1-52C7-42E9-82EB-84C5073D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FA0-95B4-4C69-9BB5-65700CE3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D94-7817-422F-877E-FED76F79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EE3-FE15-45AB-A4E3-E11335A2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484E-4618-46C2-8EC4-1C22364B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4DE5-BFB5-441B-8F52-ABF7EEC3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73D9-5049-4369-9370-87A3353E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9624-6209-45FF-80C5-E1BA8D6D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6D30-D0D2-4B45-9639-877F02A0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EC12-56B4-4EDF-A93F-36A52174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4E3A-2BF1-48A7-B56D-CF8B24B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E31-CDEE-448D-8949-3D9B37C6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F801-09B6-4D3E-A2C8-EAF90680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2E2F-EA4B-43B7-A1C9-9A831729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0181-3FF0-46E0-B649-4FF3DA2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096B-D7D9-4ADE-8505-CE7CEAC6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E2A3-0376-4624-B62E-9E3D34F7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BCA9-3366-4B9C-BDC5-69D0AADA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40F6-CDCB-485D-88A7-1BA30C93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40AA-D795-4065-BBF8-D2624754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6139-EA91-46BA-984E-DD424305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7AFB-521B-4AAD-A01E-7E4ED314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D4F-3851-43DA-A524-ADD28120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EF11-8961-47C5-973C-3D7F4FDF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3554E-97A3-4EB9-A43A-281CB39D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3CD1-88DE-4720-9BCF-BE150A30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91E8-FDA4-4CEE-8E5F-1FF6BBF0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578A-655C-40B1-A13E-CC0C51F4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509B-AE71-49BF-A639-D2C59E10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3809-6471-43DC-A921-511AB411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405D-5B4E-4365-B89E-187E1D0A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C20B9-A247-4925-BC8E-0C0F1EF8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C39B-BBFB-403B-9FEB-BA4C6D70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627-DF1B-413A-B9EC-A65A959B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F7DD5-BF48-41F3-817C-679C3221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2D8E-CA18-46E7-8C54-00416F65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F9FBD-37DA-4210-8080-B792F1DB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AEDCD-5FEA-416F-A2F6-1A8D488F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B2494-7052-4809-86AE-4BF2021A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69FB-0B43-40FD-95C2-312FA998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399A7-DEFC-4939-83E5-861CE4ED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4B783-1726-4A11-9DA8-F0569730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5D49F-3B62-4772-8B8D-54CF5916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3C636-723B-4009-B088-ABFBBD55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1B2-F629-4210-9E30-E7EBEEF1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CB4EB-A45B-4B5A-ADB3-16FA2897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9357-2FF7-4526-A8B4-DEA3730D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EB60C-1720-4EE9-9AC9-3542940D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D646C-C377-4485-A17D-87C80E9F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308E6-C416-4CF7-ABD5-CD49A772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CAC6F-21A2-4583-86E8-28071B76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53176-40E3-4C40-9491-17F2220A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374B7-744F-4C51-840D-D375EC0A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2D2DE-E2F1-4B55-8BE0-EF932276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3B6A1-BED1-4DEA-BCE9-0BD8972B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4B9-49AC-4DC7-9791-0F90AAC0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9023F-5898-4721-B962-AFBF9B40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F357D-B9BB-4F55-8282-F22C30D0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0EE1-8956-46DF-8192-7FD8A9AB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16D70-9215-417F-B004-1E615F7E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C2118-B9B8-4559-AF00-DB3D94F8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C87FD-0647-4054-9137-FDF6270D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5EA99-7343-4E85-AA4C-6EE7601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4D247-7846-4D16-AD2E-825F55B5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0A90E-7B1D-4DD6-BC14-CE745D27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7EE48-C8AD-4656-8F91-6BF2CE42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654-4DBE-4856-9E2B-4792BD1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C12A7-F68A-44AD-B956-A27C1840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05E33-D0B1-482C-A337-1F62FD8B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7B8A1-4C2D-4664-9D59-97F52FD7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A1236-78E0-4A20-ABD6-F99CFC7E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87EC-BAD5-45D0-A2CA-874373CE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61B76-98BE-4A18-83DF-204AFD8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5B9A2-8C30-41B7-ACBC-265FA797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C43DE-9A7D-42C1-9587-EE8BF3A6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FF4A5-9645-4D5F-94BC-D18B50C6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8D83C-E76F-4C87-BAB5-F6A5E9D4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33F-2D29-491D-8D98-9B2EAB65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42093-6A9C-40CC-BD0E-6EC2E11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215E3-2009-4856-89C2-CBC6C8BD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A53E7-FB75-40E9-B50E-32FB892B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5C97D-F5EB-4B60-BC27-FDDE7DD2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C0E86-1603-4801-BFFE-D22C6034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857-4A2C-4387-AECC-71ADBEBE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5899-EA6F-42E3-B713-428E1837699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0069-CE22-4E4A-A291-705BB06D5ED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3AE8-BD52-408F-98E1-0BAC27E739C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A1CB-8E75-45F7-B1F9-78E07D3F35A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247B-9780-4DA1-B18D-21229AAD9F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C101-826D-408E-887F-666AE7F1A10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B16E-BECB-4609-A689-C6E725625B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Заголовок 1"/>
          <p:cNvSpPr/>
          <p:nvPr/>
        </p:nvSpPr>
        <p:spPr>
          <a:xfrm>
            <a:off x="304920" y="2438280"/>
            <a:ext cx="8610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Calibri"/>
              </a:rPr>
              <a:t>Исполнение бюджета                </a:t>
            </a: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Аппарата отдела предпринимательства и туризма акимата  Айыртауского района СКО  на 01.04.202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хема 2" descr=""/>
          <p:cNvPicPr/>
          <p:nvPr/>
        </p:nvPicPr>
        <p:blipFill>
          <a:blip r:embed="rId1"/>
          <a:stretch/>
        </p:blipFill>
        <p:spPr>
          <a:xfrm>
            <a:off x="176040" y="762120"/>
            <a:ext cx="8944200" cy="5906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Основные документы по исполнению бюджета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135000" y="2057400"/>
          <a:ext cx="8762760" cy="2746440"/>
        </p:xfrm>
        <a:graphic>
          <a:graphicData uri="http://schemas.openxmlformats.org/drawingml/2006/table">
            <a:tbl>
              <a:tblPr/>
              <a:tblGrid>
                <a:gridCol w="2361960"/>
                <a:gridCol w="762120"/>
                <a:gridCol w="762120"/>
                <a:gridCol w="761760"/>
                <a:gridCol w="914400"/>
                <a:gridCol w="914400"/>
                <a:gridCol w="838440"/>
                <a:gridCol w="533160"/>
                <a:gridCol w="914400"/>
              </a:tblGrid>
              <a:tr h="46152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ое исполн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1 м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четный период 2021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довой 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1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на 1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исп.-я (год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исп.-я (1.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360" rIns="936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аппарата отдела предпринимательства и туриз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2160" y="474840"/>
            <a:ext cx="46479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ndara"/>
              </a:rPr>
              <a:t>Исполнение бюджета по расходам  отдела предпринимательства и туризма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7887240" y="130968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млн. тенг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1350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2872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Картинки по запросу картинки бюджет"/>
          <p:cNvPicPr/>
          <p:nvPr/>
        </p:nvPicPr>
        <p:blipFill>
          <a:blip r:embed="rId1"/>
          <a:stretch/>
        </p:blipFill>
        <p:spPr>
          <a:xfrm>
            <a:off x="439560" y="47484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Картинки по запросу картинки налоги и налогообложение"/>
          <p:cNvPicPr/>
          <p:nvPr/>
        </p:nvPicPr>
        <p:blipFill>
          <a:blip r:embed="rId2"/>
          <a:stretch/>
        </p:blipFill>
        <p:spPr>
          <a:xfrm>
            <a:off x="2173320" y="468360"/>
            <a:ext cx="1295280" cy="9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User</cp:lastModifiedBy>
  <cp:lastPrinted>2020-06-29T10:54:18Z</cp:lastPrinted>
  <dcterms:modified xsi:type="dcterms:W3CDTF">2022-05-22T08:00:18Z</dcterms:modified>
  <cp:revision>8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