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D2D-0203-43F6-8B8B-3FE1517D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7A0-C942-4F47-883C-40DD689E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CB3-FD6F-434B-9E53-3E17AEC4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BC2D-21F6-4206-8F37-D4C4475F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44C1-E524-4035-8673-4239A205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C7F8-17C6-4A22-9FB2-CF918FC0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B452-0877-4D00-BA3C-DD5D5222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CCDA-C051-4861-A3F3-3FF5DAD2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60DE-59C9-41FB-B847-45EDAAC8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356F-8998-4CC4-B32A-0D4165B9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D7B2-B73B-41E9-87C3-CA48BD7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FFF-36BD-4066-A56E-EA81E333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736F-01AB-4E4C-9542-1ABAE903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CD9E-4DD2-4928-94A0-ABD4ED4F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CAD8-DA6D-4749-B5C6-71C80F1D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A75E-6C93-4C9A-A0F1-B748D601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9675-E8A6-43FF-9E02-E4548EE7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71FA-CF24-44C0-9134-56AD1963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A92B1-873C-4A40-970D-B4F7625C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7EAE-EDA3-4D19-B75F-C1F57C86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F6B23-8496-47B9-8132-7A1C0B97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D57B-3825-4D0F-931A-874AF8D3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B1B-34FB-4722-9E1A-3825F741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7E86-09F2-4D02-836A-A176533D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CA74-80A7-4C50-8D00-6E8F2F94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2AFC-3E58-4B61-8765-5C5AB1CF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0372C-BC4F-4F88-8911-48ACFE93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B92C-9C3F-4E5C-8199-B7E9B66D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4450-F009-4474-A3AB-10B304E6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A5D7E-F686-4183-A9FC-19F7311A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180B-10CD-4FDF-A082-E0CA5A4A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4EBC-326F-4139-9D86-C2126D34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6B27-1E70-4984-9A79-815CCAD1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AC1-06AF-4719-9180-3926FAE9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4C057-0DDE-43F0-AE80-D51DC960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2CFFE-0202-4CD8-9EF9-0AE4A0AA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90771-B98F-42D5-ACB1-49424460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B989-41E2-4440-9DF8-E3A767FE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776E0-693A-4AAC-BB9A-EFA82EBB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C0F10-4380-4400-B510-9DDC8E93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675AF-4F8E-42D9-8DA1-48B1E1B1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EE909-A389-4745-8648-6FA27E6F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7998-D279-4E1F-912C-A1D46FD9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7532A-EB4E-4D4D-BFBA-63179E9D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D70-8555-427D-9D85-60A09130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BD4F9-9E35-4D83-99C4-75F618DF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69B6E-A9CC-4743-A58D-F08F1D45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8F2D-EE28-481D-867E-6EBA156E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28994-AADE-4881-998D-376BF00F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47D0E-6D52-4DEF-A230-0A085587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C57AF-5A39-4052-9CF1-0FB78B80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01C26-3A4B-4547-B55D-3FCA6F66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AD0A8-E7F8-4D40-8EE7-00440AB3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C213B-BC63-4DA3-AEC8-81065B98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591DA-80BC-4587-8B67-CB8DE571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7DA-6460-44CF-9670-449B80F1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132E-5936-4F9A-B29A-09F48D94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48C37-035F-425D-8E10-38CC20F5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73339-9FFA-4291-ABFB-39BB275D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8D51A-7B28-4690-AAFF-2E5E4E96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3DF8-9C91-41FC-A9E0-6870ACBB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BF53A-A29A-4B0F-83DC-DF15EEA3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E8AD9-349E-47E6-9999-A60AEFF7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C8CC0-B8C6-4636-83D4-A7AA4375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7B7A0-97CE-47B7-8FAB-E681CE1A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1AE56-35F5-4DD8-B9D4-D2FE76E7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71B-EC0C-4BD1-BD63-781AB501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5992E-C500-4456-822E-3EA2DB57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E053-40CD-4FB9-8A14-95EB7B9B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F9119-E92A-4162-AB33-D1F151E6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2A5FC-2B55-464A-85B5-FC9CDD77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27AFE-3F7E-4684-AFAB-D174A848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5B638-900F-4D0A-87A6-63C80140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70D01-F13C-4F6C-9709-BEAB001D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C92DB-7737-480F-A3D6-2F22E2DB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1A684-6267-4B79-9A11-6A827BD6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8B737-055D-462C-9516-1BF785D9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D90-74B8-40F9-B00F-FEE99505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A5D2B-B180-42B3-BCBB-6DB485E2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F2EB8-1897-44A2-8193-E003A08A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84F29-7F17-4366-8911-58EC2FBA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E5733-B1E4-4CC5-852A-53E12B08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997ED-B250-411A-9F11-36EC2906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5A8-2531-41D8-89AC-9E776490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8B33-E98A-4961-91B2-AB88223DEDE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A2E2-60AE-4FE6-8786-BB7C2E30B6A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AF31-5279-4DFA-A792-E8F28BFEF8C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B5CA-023A-4E94-BAC8-421FF95EFEB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DAF8-8FDD-44F0-93DA-0836124DDF1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D97D-6985-49D3-BA20-F720A7047AD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45FB-1324-4228-99E4-2F6FE110D09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Заголовок 1"/>
          <p:cNvSpPr/>
          <p:nvPr/>
        </p:nvSpPr>
        <p:spPr>
          <a:xfrm>
            <a:off x="304920" y="2438280"/>
            <a:ext cx="8610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Calibri"/>
              </a:rPr>
              <a:t>Бюджеттің орындалуы               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ҚО Айыртау аудан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әсіпкерлік және туризм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01.04.2022 жылға арналғ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хема 2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978760" cy="58402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Бюджеттің орындалуы бойынша негізгі құжаттар 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228600" y="1752480"/>
          <a:ext cx="8610480" cy="3048120"/>
        </p:xfrm>
        <a:graphic>
          <a:graphicData uri="http://schemas.openxmlformats.org/drawingml/2006/table">
            <a:tbl>
              <a:tblPr/>
              <a:tblGrid>
                <a:gridCol w="2362320"/>
                <a:gridCol w="761760"/>
                <a:gridCol w="685800"/>
                <a:gridCol w="685800"/>
                <a:gridCol w="914400"/>
                <a:gridCol w="762120"/>
                <a:gridCol w="838080"/>
                <a:gridCol w="762120"/>
                <a:gridCol w="838080"/>
              </a:tblGrid>
              <a:tr h="460440"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тау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ақты орындау 1 қаңтарғ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 жылғы есептік кезе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жы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жы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жы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ылдық жосп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4-ға жосп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қты орында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атқарылу (жыл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атқарылу(1.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лық шығыстар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</a:t>
                      </a: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ың ішін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360" rIns="936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әсіпкерлік және туризм аппаратын ұст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</a:t>
                      </a: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2160" y="474840"/>
            <a:ext cx="464796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ndara"/>
              </a:rPr>
              <a:t>Мәслихат аппаратының шығыстары бойынша бюджеттің атқарылуы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7887240" y="130968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ff"/>
                </a:solidFill>
                <a:latin typeface="Arial"/>
              </a:rPr>
              <a:t>млн. тенг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1350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2872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Картинки по запросу картинки бюджет"/>
          <p:cNvPicPr/>
          <p:nvPr/>
        </p:nvPicPr>
        <p:blipFill>
          <a:blip r:embed="rId1"/>
          <a:stretch/>
        </p:blipFill>
        <p:spPr>
          <a:xfrm>
            <a:off x="439560" y="474840"/>
            <a:ext cx="1447920" cy="965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Картинки по запросу картинки налоги и налогообложение"/>
          <p:cNvPicPr/>
          <p:nvPr/>
        </p:nvPicPr>
        <p:blipFill>
          <a:blip r:embed="rId2"/>
          <a:stretch/>
        </p:blipFill>
        <p:spPr>
          <a:xfrm>
            <a:off x="2173320" y="468360"/>
            <a:ext cx="1295280" cy="9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User</cp:lastModifiedBy>
  <cp:lastPrinted>2020-06-29T10:54:18Z</cp:lastPrinted>
  <dcterms:modified xsi:type="dcterms:W3CDTF">2022-04-19T13:28:19Z</dcterms:modified>
  <cp:revision>8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